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9B8C-ADF0-4B4B-B801-E07642B42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C385-E8B5-4541-B695-4FFF51C46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A9A6-28C9-4CFB-83B0-4954B896F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0E0B-D9AA-4C6B-84D9-8C708D138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B731-EA23-4133-9BB9-C54F901DAC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BF94-5B5F-4950-BF07-AC450DC735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03B2-8725-46C6-9FFF-1D4B775FE2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DE9F-F93C-4730-A3A5-DFD1C94FB9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779E-CF58-4C0C-BF1E-AE05E83D46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03B5-5AE4-4BE0-BAAC-0E2AE1F3B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29A6-F56F-4665-9500-DB47A108B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3116-38A1-4403-B6E8-350E6A42A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3A28-7A51-4C5B-BBF4-82766B9433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B5BA-FF49-4268-A9DD-5590F7C805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F401-1DCF-486F-8385-CDAB7899C4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D86C-0D88-4FDD-9D5F-4BED53A976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3595-B704-483E-83C5-9CF5367413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836-B7CA-4DFD-95B7-7F59FB8881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30C-C632-4DF0-9F31-C736121E9E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7DB-62F0-4CDF-97D5-E0F3012BE9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04A-147B-4887-93B6-C55AD4A142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D63-9766-4A3D-8C9D-1DD3CF9ED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5007-5485-4919-9D93-828DAECC2E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667-B174-483F-A477-04BFDA8261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2E0-A1B1-485B-ADDA-CF721AB5A6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D6B-4309-4BC8-8E0E-C2ED5AE75E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2DB-D2E1-4E16-9D6B-BBFAF6AA18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207-AFDA-4C6A-B969-C1F90D2AA0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B1F-3A31-42EF-9CFD-05B0BEFFCF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F8B-A935-45E0-B5A7-FB26D0B3E7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EAE4-4CE5-4325-8EF4-0E2434926A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6698-D345-461B-AF19-0ED39696EC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C36F-FCCF-4D3B-98B1-B8E29BFF09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F0F3-263D-4859-8267-08CB9CC84C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6C5AE-4ED6-47E4-8CDB-B6AFC2E298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EE4B4-AEF5-4D0C-9992-B37C913DD3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052C1-0A84-4051-9054-55D26A50EC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49230-8A12-40E3-A9F8-7BEEC461D1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1D67A-4E44-46C7-A137-1E0E542E8E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3DEB2-642D-469B-BE75-8B8C50594B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B5BDF-222B-44A9-B6AE-D92777F10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DBC1-926E-478A-A9B1-07BCE8F5618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32B3-B265-4728-AD6B-B2EE90AD29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17766-7781-4073-B0A7-8AB8010535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17D98-DCF9-4810-9967-DD6583ECF6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284C8-678F-474E-B495-3FB208D642A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02D99-F958-4C04-923F-B704742E9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04FC-A741-464B-810B-E1F27BD2A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812880" indent="-5716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257480" indent="-5716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3" marL="1701720" indent="-57132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4" marL="2146320" indent="-5716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5" marL="2146320" indent="-57168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6" marL="2146320" indent="-57168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517120" y="9181800"/>
            <a:ext cx="268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A4C2-01E9-460D-980C-082F2CA6CF45}" type="slidenum"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18960" y="2133720"/>
            <a:ext cx="528300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 fontScale="83000"/>
          </a:bodyPr>
          <a:p>
            <a:pPr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74640" indent="-4744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043640" indent="-4744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3" marL="1412280" indent="-47412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4" marL="1781280" indent="-4744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5" marL="1781280" indent="-47448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6" marL="1781280" indent="-47448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219320" y="8737560"/>
            <a:ext cx="2311200" cy="71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83720" y="8721000"/>
            <a:ext cx="2945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Department of</a:t>
            </a:r>
            <a:br>
              <a:rPr sz="2400"/>
            </a:b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"/>
          <p:cNvSpPr/>
          <p:nvPr/>
        </p:nvSpPr>
        <p:spPr>
          <a:xfrm>
            <a:off x="10207800" y="8727120"/>
            <a:ext cx="15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ichael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1517120" y="9181800"/>
            <a:ext cx="268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71FE-F32B-463D-B90B-825B82FA474A}" type="slidenum"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19320" y="8737560"/>
            <a:ext cx="2311200" cy="711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83720" y="8721000"/>
            <a:ext cx="2945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Department of</a:t>
            </a:r>
            <a:br>
              <a:rPr sz="2400"/>
            </a:b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"/>
          <p:cNvSpPr/>
          <p:nvPr/>
        </p:nvSpPr>
        <p:spPr>
          <a:xfrm>
            <a:off x="10207800" y="8727120"/>
            <a:ext cx="15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ichael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3"/>
          </p:nvPr>
        </p:nvSpPr>
        <p:spPr>
          <a:xfrm>
            <a:off x="11517120" y="9181800"/>
            <a:ext cx="268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464C-E391-4D21-9F83-314B0EA4D852}" type="slidenum"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628840" y="8733600"/>
            <a:ext cx="315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pyright © 2013 J. M.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7514640"/>
            <a:ext cx="5308200" cy="1950840"/>
            <a:chOff x="1219320" y="7514640"/>
            <a:chExt cx="5308200" cy="195084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219320" y="7543800"/>
              <a:ext cx="19047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053880" y="7514640"/>
              <a:ext cx="3473640" cy="19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2280" rIns="152280" tIns="152280" bIns="152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6112c"/>
                  </a:solidFill>
                  <a:latin typeface="FoundrySterling-Book"/>
                  <a:ea typeface="FoundrySterling-Book"/>
                </a:rPr>
                <a:t>Department of</a:t>
              </a:r>
              <a:br>
                <a:rPr sz="3600"/>
              </a:br>
              <a:r>
                <a:rPr b="0" lang="en-US" sz="3600" spc="-1" strike="noStrike">
                  <a:solidFill>
                    <a:srgbClr val="06112c"/>
                  </a:solidFill>
                  <a:latin typeface="FoundrySterling-Book"/>
                  <a:ea typeface="FoundrySterling-Book"/>
                </a:rPr>
                <a:t>COMPUTER</a:t>
              </a:r>
              <a:br>
                <a:rPr sz="3600"/>
              </a:br>
              <a:r>
                <a:rPr b="0" lang="en-US" sz="3600" spc="-1" strike="noStrike">
                  <a:solidFill>
                    <a:srgbClr val="06112c"/>
                  </a:solidFill>
                  <a:latin typeface="FoundrySterling-Book"/>
                  <a:ea typeface="FoundrySterling-Book"/>
                </a:rPr>
                <a:t>SCIENCE</a:t>
              </a:r>
              <a:endParaRPr b="0" lang="en-US" sz="36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10566360" cy="2743200"/>
          </a:xfrm>
          <a:prstGeom prst="rect">
            <a:avLst/>
          </a:prstGeom>
          <a:solidFill>
            <a:srgbClr val="e1effe"/>
          </a:solidFill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1" lang="en-US" sz="72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8960" y="4572000"/>
            <a:ext cx="10566360" cy="1905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rmAutofit fontScale="25000"/>
          </a:bodyPr>
          <a:p>
            <a:pPr indent="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2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3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4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5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6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18960" y="2133720"/>
            <a:ext cx="10566360" cy="1828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 fontScale="29000"/>
          </a:bodyPr>
          <a:p>
            <a:pPr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235440" indent="-16560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364320" indent="-16560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3" marL="493200" indent="-16560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4" marL="622080" indent="-16560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5" marL="622080" indent="-16560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6" marL="622080" indent="-16560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219320" y="8737560"/>
            <a:ext cx="2311200" cy="711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83720" y="8721000"/>
            <a:ext cx="2945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Department of</a:t>
            </a:r>
            <a:br>
              <a:rPr sz="2400"/>
            </a:b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"/>
          <p:cNvSpPr/>
          <p:nvPr/>
        </p:nvSpPr>
        <p:spPr>
          <a:xfrm>
            <a:off x="10207800" y="8727120"/>
            <a:ext cx="15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ichael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4"/>
          </p:nvPr>
        </p:nvSpPr>
        <p:spPr>
          <a:xfrm>
            <a:off x="11517120" y="9181800"/>
            <a:ext cx="268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94E7-AB9A-4623-99BB-BF316794F71D}" type="slidenum"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19320" y="8737560"/>
            <a:ext cx="2311200" cy="711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83720" y="8721000"/>
            <a:ext cx="2945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Department of</a:t>
            </a:r>
            <a:br>
              <a:rPr sz="2400"/>
            </a:b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"/>
          <p:cNvSpPr/>
          <p:nvPr/>
        </p:nvSpPr>
        <p:spPr>
          <a:xfrm>
            <a:off x="10207800" y="8727120"/>
            <a:ext cx="15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ichael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Searching for the maximum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 fontScale="96000"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he real-valued functi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, defined for 0 ≤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≤ 1, has a single maximum at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 0 ≤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&lt;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≤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the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&lt;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≤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&lt;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≤ 1 the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&gt;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You are told nothing else about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but you may ask for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t any values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you choose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w would you find the approximate value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w accurately could find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f you could ask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t only 10 values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2331-4B70-4BC7-A0AD-40160FC1F03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